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13.jpeg" ContentType="image/jpeg"/>
  <Override PartName="/ppt/media/image6.gif" ContentType="image/gif"/>
  <Override PartName="/ppt/media/image11.jpeg" ContentType="image/jpeg"/>
  <Override PartName="/ppt/media/image12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309-908A-4C20-99E0-706673F8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38C-4F80-4C90-A185-7C7A8F57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F9F-0F79-44FC-923A-39ABC533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F64-30D5-4DDB-B526-BEE78E4D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AEEB-5E3D-494F-851A-81D710FD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EFE-EE20-4996-BB29-0FFFB1DE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F13-5923-4E84-96A1-F2E010CE6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893-EB45-4DE3-BC5B-CC8DCCF9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5D95-DEFD-41A4-A45C-2E4EDA7F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7C38-205E-4831-B75A-219A7737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D16-1BF2-4CAB-A40B-E9DA523F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155D-705F-4B3D-A646-D319B373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11B2-462E-4FE0-BA33-0C011383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A23F-FD49-4012-9046-AA0F33AD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FE0-CD3B-45A1-8DC2-0BAC5A06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ACB-1104-430C-92D8-A10B7F10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94BA-6027-45BB-8708-0000EA99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C2C1-291B-441A-86F9-995C83424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3BAB-9245-4BB3-B2FD-36A68610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F15A-1C6D-4216-A1DE-1B116F04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525-A33C-4191-BAFF-EB29681C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241A-0FF6-48B7-ACAA-0600C06F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1AC-40A7-424C-B7C1-4D61175A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943-5E17-44BF-8A93-F384071E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E5C-35BC-4CFB-8B48-365FAADB6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BB0-3A13-4937-A604-0729FF52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454-5DC9-4470-A237-39909B07F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4537-A7FB-4471-A578-79CA7F0EF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EA9-A4E0-4726-98FE-95AC9D22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688-ED9D-4B3C-ABEE-EA9DCC16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73D-7ECC-4DA6-A943-4FDB0A6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DE5-8793-40C9-BC09-CA614FFB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A46-D636-4859-8E8D-FB2C85D1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637-BF76-4F71-9884-B414CA30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7FD-B181-442A-92AC-80F3999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44A-E64B-45DF-9362-613EDCE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670-F353-4803-BA54-E2B5A28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0AB-F1C7-405D-BC01-6BCB6D6C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089-FBD6-4178-997F-679484B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B13-2CEC-4982-A0FC-05A921B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D81-AFB9-48D7-837A-5420FE5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b3c3"/>
            </a:gs>
            <a:gs pos="100000">
              <a:srgbClr val="af6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454-A194-4F11-891A-AB0F838BEDDB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228600"/>
            <a:ext cx="56386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ce31e"/>
                </a:solidFill>
                <a:latin typeface="Century Gothic"/>
              </a:rPr>
              <a:t>GRAVITY: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Ch 12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Sec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p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31e"/>
                </a:solidFill>
                <a:latin typeface="Century Gothic"/>
              </a:rPr>
              <a:t>403-4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6033960"/>
            <a:ext cx="9144000" cy="825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e31e"/>
                </a:solidFill>
                <a:latin typeface="Arial"/>
              </a:rPr>
              <a:t>GRAVITY IS 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8600" y="533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halkboard Bol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halkboard Bold"/>
              </a:rPr>
              <a:t>Acceleration of free-falling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All falling objects accelerate (change ____________) towards the _________ of the Earth due to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eleration of a falling object due to grav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33720" y="45720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.8 m/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or 9.8 m/s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629400" y="2209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05120" y="2666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010280" y="2666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13_gravity546"/>
          <p:cNvPicPr/>
          <p:nvPr/>
        </p:nvPicPr>
        <p:blipFill>
          <a:blip r:embed="rId1"/>
          <a:stretch/>
        </p:blipFill>
        <p:spPr>
          <a:xfrm>
            <a:off x="5410080" y="228600"/>
            <a:ext cx="3514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57200" y="3962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on Earth, not all falling objects hit the ground at the same time because of _____________ or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51055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603b"/>
                </a:solidFill>
                <a:latin typeface="Arial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457200" y="4800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603b"/>
                </a:solidFill>
                <a:latin typeface="Arial"/>
              </a:rPr>
              <a:t>FLUID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4920" y="1066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 velocity of a freely-falling object __________ by ____ m/s for every _______ that pas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up to a certain poi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60020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1e1e"/>
                </a:solidFill>
                <a:latin typeface="Arial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7200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9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049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1e1e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1337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_45554278_apples_esa_226"/>
          <p:cNvPicPr/>
          <p:nvPr/>
        </p:nvPicPr>
        <p:blipFill>
          <a:blip r:embed="rId1"/>
          <a:srcRect l="31856" t="0" r="31856" b="0"/>
          <a:stretch/>
        </p:blipFill>
        <p:spPr>
          <a:xfrm>
            <a:off x="0" y="-76320"/>
            <a:ext cx="2516040" cy="693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U1L5b3"/>
          <p:cNvPicPr/>
          <p:nvPr/>
        </p:nvPicPr>
        <p:blipFill>
          <a:blip r:embed="rId2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03-10Figure_FIG.jpg"/>
          <p:cNvPicPr/>
          <p:nvPr/>
        </p:nvPicPr>
        <p:blipFill>
          <a:blip r:embed="rId1"/>
          <a:stretch/>
        </p:blipFill>
        <p:spPr>
          <a:xfrm>
            <a:off x="7238880" y="1523880"/>
            <a:ext cx="152568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Text Box 11"/>
          <p:cNvSpPr/>
          <p:nvPr/>
        </p:nvSpPr>
        <p:spPr>
          <a:xfrm>
            <a:off x="1522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ce of G on Moon = 1.63 m/s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0" y="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moon…all objects hit the surface at the SAME time because there is no ____ on the moon.  There IS GRAVITY.  Gravity = ____ of Earth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5627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334120" y="9144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609480" y="19810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mmer &amp; Feather Drop on Moon (Apollo 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09480" y="41911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Balloon Fight i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20764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28600" y="152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rminal Velo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99072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 speed that an object can have in freefall due to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80880" y="38862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295280" y="990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419720" y="1447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3886200" cy="38098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57200" y="4038480"/>
            <a:ext cx="2819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-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28600" y="2362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velocity changes depending on the ob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9" descr="Skydiver"/>
          <p:cNvPicPr/>
          <p:nvPr/>
        </p:nvPicPr>
        <p:blipFill>
          <a:blip r:embed="rId1"/>
          <a:stretch/>
        </p:blipFill>
        <p:spPr>
          <a:xfrm>
            <a:off x="3962520" y="2881440"/>
            <a:ext cx="51814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objects fall, _____________ increases until it balances the _______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65760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FLUID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553080" y="838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28600" y="228600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a heavier object will accelerate for a _________ time period and have a __________ terminal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09480" y="3276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04920" y="4191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228600" y="5486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ying Squirrel Suits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62120" y="2895480"/>
            <a:ext cx="2705040" cy="8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943600" y="6095880"/>
            <a:ext cx="2705040" cy="8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791320" y="6248520"/>
            <a:ext cx="3111480" cy="393480"/>
          </a:xfrm>
          <a:prstGeom prst="rect">
            <a:avLst/>
          </a:prstGeom>
          <a:solidFill>
            <a:srgbClr val="cc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676520" y="2133720"/>
            <a:ext cx="0" cy="6728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1676520" y="3047760"/>
            <a:ext cx="0" cy="672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06200" y="312408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2520" y="23623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28600" y="228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 flat sheet of paper falls slowly because of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air resistance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-it reaches its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  <a:ea typeface="ヒラギノ角ゴ Pro W3"/>
              </a:rPr>
              <a:t>TERMINAL VELOCITY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 right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228600" y="38862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If placed on a magazine, the paper accelerates with the magazine.  Since the magazine weighs more, it accelerates for a longer time perio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OPPED FROM A HIGH POINT…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04-16Figure_FIG.jpg"/>
          <p:cNvPicPr/>
          <p:nvPr/>
        </p:nvPicPr>
        <p:blipFill>
          <a:blip r:embed="rId1"/>
          <a:stretch/>
        </p:blipFill>
        <p:spPr>
          <a:xfrm>
            <a:off x="6553080" y="838080"/>
            <a:ext cx="2443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6"/>
          <p:cNvGrpSpPr/>
          <p:nvPr/>
        </p:nvGrpSpPr>
        <p:grpSpPr>
          <a:xfrm>
            <a:off x="7317360" y="3048120"/>
            <a:ext cx="1130760" cy="1549440"/>
            <a:chOff x="7317360" y="3048120"/>
            <a:chExt cx="1130760" cy="1549440"/>
          </a:xfrm>
        </p:grpSpPr>
        <p:sp>
          <p:nvSpPr>
            <p:cNvPr id="143" name="Line 7"/>
            <p:cNvSpPr/>
            <p:nvPr/>
          </p:nvSpPr>
          <p:spPr>
            <a:xfrm>
              <a:off x="7469280" y="4060800"/>
              <a:ext cx="0" cy="5367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7980480" y="3843360"/>
              <a:ext cx="0" cy="2649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V="1">
              <a:off x="7991640" y="3239640"/>
              <a:ext cx="0" cy="265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V="1">
              <a:off x="7456680" y="3409920"/>
              <a:ext cx="0" cy="264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7317360" y="30481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r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7557120" y="41194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3"/>
          <p:cNvSpPr/>
          <p:nvPr/>
        </p:nvSpPr>
        <p:spPr>
          <a:xfrm>
            <a:off x="6707160" y="990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156160" y="99072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31e"/>
                </a:solidFill>
                <a:latin typeface="Arial"/>
                <a:ea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52280" y="121932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ing pong ball reaches its terminal velocity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lf ball continues to accelerate for a greater time period and has a greater terminal velocity- so it hits the ground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lling Objects La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14400" y="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603b"/>
                </a:solidFill>
                <a:latin typeface="Arial"/>
              </a:rPr>
              <a:t>FALLING PEN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200px-2005_Penny_Obv_Unc_D"/>
          <p:cNvPicPr/>
          <p:nvPr/>
        </p:nvPicPr>
        <p:blipFill>
          <a:blip r:embed="rId1"/>
          <a:stretch/>
        </p:blipFill>
        <p:spPr>
          <a:xfrm>
            <a:off x="8381880" y="1522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00px-2005_Penny_Obv_Unc_D"/>
          <p:cNvPicPr/>
          <p:nvPr/>
        </p:nvPicPr>
        <p:blipFill>
          <a:blip r:embed="rId2"/>
          <a:stretch/>
        </p:blipFill>
        <p:spPr>
          <a:xfrm>
            <a:off x="8229600" y="8380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200px-2005_Penny_Obv_Unc_D"/>
          <p:cNvPicPr/>
          <p:nvPr/>
        </p:nvPicPr>
        <p:blipFill>
          <a:blip r:embed="rId3"/>
          <a:stretch/>
        </p:blipFill>
        <p:spPr>
          <a:xfrm>
            <a:off x="914400" y="45720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200px-2005_Penny_Obv_Unc_D"/>
          <p:cNvPicPr/>
          <p:nvPr/>
        </p:nvPicPr>
        <p:blipFill>
          <a:blip r:embed="rId4"/>
          <a:stretch/>
        </p:blipFill>
        <p:spPr>
          <a:xfrm>
            <a:off x="228600" y="152280"/>
            <a:ext cx="509760" cy="522360"/>
          </a:xfrm>
          <a:prstGeom prst="rect">
            <a:avLst/>
          </a:prstGeom>
          <a:ln w="0">
            <a:noFill/>
          </a:ln>
        </p:spPr>
      </p:pic>
      <p:pic>
        <p:nvPicPr>
          <p:cNvPr id="157" name="Gravity Mythbusters - Death By a Falling Penny?.mov" descr=""/>
          <p:cNvPicPr/>
          <p:nvPr/>
        </p:nvPicPr>
        <p:blipFill>
          <a:blip r:embed="rId5"/>
          <a:stretch/>
        </p:blipFill>
        <p:spPr>
          <a:xfrm>
            <a:off x="914400" y="1066680"/>
            <a:ext cx="721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katfig00"/>
          <p:cNvPicPr/>
          <p:nvPr/>
        </p:nvPicPr>
        <p:blipFill>
          <a:blip r:embed="rId1"/>
          <a:stretch/>
        </p:blipFill>
        <p:spPr>
          <a:xfrm>
            <a:off x="7238880" y="2895480"/>
            <a:ext cx="1905120" cy="3962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219320" y="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d603b"/>
                </a:solidFill>
                <a:latin typeface="Arial"/>
              </a:rPr>
              <a:t>FALLING CA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914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There are cats on record that have survived falls of over 32 stories (~320 fe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They are more likely to die in falls less than 5 stories.  HOW IS THIS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526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On average, cats reach their terminal velocity (60 mph) after falling about 5 sto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0" y="5029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Once reaching this velocity, they relax and spread out like a parachute, minimizing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8600" y="228600"/>
            <a:ext cx="7772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halkboard Bold"/>
              </a:rPr>
              <a:t>A.  GRAVITY</a:t>
            </a:r>
            <a:r>
              <a:rPr b="0" i="1" lang="en-US" sz="4000" spc="-1" strike="noStrike">
                <a:solidFill>
                  <a:srgbClr val="000000"/>
                </a:solidFill>
                <a:latin typeface="BlairMdITC TT-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8600" y="1066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</a:t>
            </a:r>
            <a:r>
              <a:rPr b="0" lang="en-US" sz="3600" spc="-1" strike="noStrike">
                <a:solidFill>
                  <a:srgbClr val="0d603b"/>
                </a:solidFill>
                <a:latin typeface="Arial"/>
              </a:rPr>
              <a:t>ATTR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tween ANY two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8600" y="320040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ter (anything that has mass) ha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rav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but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only noticeable between massive objects (like planets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117050"/>
          <p:cNvPicPr/>
          <p:nvPr/>
        </p:nvPicPr>
        <p:blipFill>
          <a:blip r:embed="rId1"/>
          <a:stretch/>
        </p:blipFill>
        <p:spPr>
          <a:xfrm>
            <a:off x="5867280" y="1295280"/>
            <a:ext cx="3124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jectile Mo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-914400" y="35053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04920" y="28954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otions DO NOT affec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228600" y="9907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that has two components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at combine to form a __________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37160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CU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9" descr="bds"/>
          <p:cNvPicPr/>
          <p:nvPr/>
        </p:nvPicPr>
        <p:blipFill>
          <a:blip r:embed="rId1"/>
          <a:stretch/>
        </p:blipFill>
        <p:spPr>
          <a:xfrm>
            <a:off x="4900680" y="762120"/>
            <a:ext cx="42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b"/>
          <p:cNvPicPr/>
          <p:nvPr/>
        </p:nvPicPr>
        <p:blipFill>
          <a:blip r:embed="rId1"/>
          <a:stretch/>
        </p:blipFill>
        <p:spPr>
          <a:xfrm>
            <a:off x="838080" y="228600"/>
            <a:ext cx="77724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lp"/>
          <p:cNvPicPr/>
          <p:nvPr/>
        </p:nvPicPr>
        <p:blipFill>
          <a:blip r:embed="rId1"/>
          <a:stretch/>
        </p:blipFill>
        <p:spPr>
          <a:xfrm>
            <a:off x="380880" y="1433520"/>
            <a:ext cx="84582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ap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illus_weightless"/>
          <p:cNvPicPr/>
          <p:nvPr/>
        </p:nvPicPr>
        <p:blipFill>
          <a:blip r:embed="rId1"/>
          <a:stretch/>
        </p:blipFill>
        <p:spPr>
          <a:xfrm>
            <a:off x="457200" y="2376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609480" y="56386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auts “float” when inside an orbiting spaceship because they are 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334120" y="6019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 FREE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g-force-one"/>
          <p:cNvPicPr/>
          <p:nvPr/>
        </p:nvPicPr>
        <p:blipFill>
          <a:blip r:embed="rId1"/>
          <a:stretch/>
        </p:blipFill>
        <p:spPr>
          <a:xfrm>
            <a:off x="0" y="286704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Z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587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0" y="22860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603b"/>
                </a:solidFill>
                <a:latin typeface="Arial"/>
              </a:rPr>
              <a:t>PARABOLIC F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experienc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lessnes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free fall with a plane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280" y="22860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a1e1e"/>
                </a:solidFill>
                <a:latin typeface="Arial"/>
              </a:rPr>
              <a:t>$2,950 per per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53352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GRAVITY CLASSROO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219320" y="10666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Gravit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43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572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5720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ight vs. 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12952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 u="sng">
                <a:solidFill>
                  <a:srgbClr val="05137f"/>
                </a:solidFill>
                <a:uFillTx/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19810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_________ in an object that _______ changes. Measured in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572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 u="sng">
                <a:solidFill>
                  <a:srgbClr val="05137f"/>
                </a:solidFill>
                <a:uFillTx/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57200" y="3809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vitational ________ that an object     experiences because of its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7200" y="5257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(changes) by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581280" y="1981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295280" y="243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962520" y="3809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56272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723888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is a FORCE.  F = 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astronaut_weight"/>
          <p:cNvPicPr/>
          <p:nvPr/>
        </p:nvPicPr>
        <p:blipFill>
          <a:blip r:embed="rId1"/>
          <a:stretch/>
        </p:blipFill>
        <p:spPr>
          <a:xfrm>
            <a:off x="0" y="1708200"/>
            <a:ext cx="7772400" cy="5149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2438280" y="2209680"/>
            <a:ext cx="312444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= 60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5791320" y="4267080"/>
            <a:ext cx="3124080" cy="642600"/>
          </a:xfrm>
          <a:prstGeom prst="rect">
            <a:avLst/>
          </a:prstGeom>
          <a:solidFill>
            <a:srgbClr val="a5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= 60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290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IM vocabulary strategy using the following term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ree fal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3049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is gravitational force depends on 2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9907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38080" y="8380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1e1e"/>
                </a:solidFill>
                <a:latin typeface="Arial"/>
              </a:rPr>
              <a:t>Mass of the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s mass increases, the force of gravi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2514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Earth vs.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2286000" y="3514680"/>
            <a:ext cx="4724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0" y="312408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is why w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 “stuck” to the surface of the Earth instead of being pulled off towards the more-massiv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-221400" y="30492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2120" y="152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1e1e"/>
                </a:solidFill>
                <a:latin typeface="Arial"/>
              </a:rPr>
              <a:t>Distance between th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As distance between the two objects _________, the force of gravity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earth_kids"/>
          <p:cNvPicPr/>
          <p:nvPr/>
        </p:nvPicPr>
        <p:blipFill>
          <a:blip r:embed="rId1"/>
          <a:stretch/>
        </p:blipFill>
        <p:spPr>
          <a:xfrm>
            <a:off x="4724280" y="2666880"/>
            <a:ext cx="4064040" cy="3765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52280" y="1447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008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0" y="5481720"/>
            <a:ext cx="9144000" cy="1373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 moon has about a 70% effect on our tides.  The sun has a 30% effect.  The sun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 gravity is stronger (179x stronger than the moon), but it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 far aw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6705720" y="45720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ing t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ion of ti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and back. (highest highs and lowest 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705720" y="2362320"/>
            <a:ext cx="2438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ap t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n and moon are at right angles to one another and tidal influences partially cancel each other out. (difference between high tide and low tide is mini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26" descr="tide06a_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gu_earth_browse"/>
          <p:cNvPicPr/>
          <p:nvPr/>
        </p:nvPicPr>
        <p:blipFill>
          <a:blip r:embed="rId1"/>
          <a:stretch/>
        </p:blipFill>
        <p:spPr>
          <a:xfrm>
            <a:off x="1371600" y="1981080"/>
            <a:ext cx="6299280" cy="314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The rotation (spinning) of the Earth creates the equatorial 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bulge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The Earth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ccccff"/>
                </a:solidFill>
                <a:latin typeface="Verdana"/>
              </a:rPr>
              <a:t>s diameter at the equator is 27 miles more than the pole to pole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5105520"/>
            <a:ext cx="9144000" cy="1717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So a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poles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 you a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closer to the center 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of the Earth, so you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weigh slightly more</a:t>
            </a:r>
            <a:r>
              <a:rPr b="0" lang="en-US" sz="3200" spc="-1" strike="noStrike">
                <a:solidFill>
                  <a:srgbClr val="cccc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Poles @ sea level: 9.780 m/s</a:t>
            </a:r>
            <a:r>
              <a:rPr b="0" lang="en-US" sz="1400" spc="-1" strike="noStrike" baseline="30000">
                <a:solidFill>
                  <a:srgbClr val="cccc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Equator @ sea level: 9.832 m/s</a:t>
            </a:r>
            <a:r>
              <a:rPr b="0" lang="en-US" sz="1400" spc="-1" strike="noStrike" baseline="30000">
                <a:solidFill>
                  <a:srgbClr val="ccccff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cccc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905120" y="3581280"/>
            <a:ext cx="2286000" cy="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6019920" y="2590920"/>
            <a:ext cx="0" cy="198108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6445080" y="6172200"/>
            <a:ext cx="26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~0.5% mor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ages"/>
          <p:cNvPicPr/>
          <p:nvPr/>
        </p:nvPicPr>
        <p:blipFill>
          <a:blip r:embed="rId1"/>
          <a:stretch/>
        </p:blipFill>
        <p:spPr>
          <a:xfrm>
            <a:off x="685800" y="3124080"/>
            <a:ext cx="8001000" cy="3117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193840" y="968400"/>
            <a:ext cx="6112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8600" y="20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w of Universal Grav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533520" y="6858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objects in the universe attract each other through the force of gr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forc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mas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s, forc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Point Star 2"/>
          <p:cNvSpPr/>
          <p:nvPr/>
        </p:nvSpPr>
        <p:spPr>
          <a:xfrm>
            <a:off x="457200" y="1600200"/>
            <a:ext cx="762120" cy="838080"/>
          </a:xfrm>
          <a:custGeom>
            <a:avLst/>
            <a:gdLst/>
            <a:ahLst/>
            <a:rect l="l" t="t" r="r" b="b"/>
            <a:pathLst>
              <a:path w="762000" h="838200">
                <a:moveTo>
                  <a:pt x="1" y="320163"/>
                </a:moveTo>
                <a:lnTo>
                  <a:pt x="291060" y="320165"/>
                </a:lnTo>
                <a:lnTo>
                  <a:pt x="381000" y="0"/>
                </a:lnTo>
                <a:lnTo>
                  <a:pt x="470940" y="320165"/>
                </a:lnTo>
                <a:lnTo>
                  <a:pt x="761999" y="320163"/>
                </a:lnTo>
                <a:lnTo>
                  <a:pt x="526526" y="518034"/>
                </a:lnTo>
                <a:lnTo>
                  <a:pt x="616470" y="838198"/>
                </a:lnTo>
                <a:lnTo>
                  <a:pt x="381000" y="640323"/>
                </a:lnTo>
                <a:lnTo>
                  <a:pt x="145530" y="838198"/>
                </a:lnTo>
                <a:lnTo>
                  <a:pt x="235474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ffba38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gravity"/>
          <p:cNvPicPr/>
          <p:nvPr/>
        </p:nvPicPr>
        <p:blipFill>
          <a:blip r:embed="rId1"/>
          <a:stretch/>
        </p:blipFill>
        <p:spPr>
          <a:xfrm>
            <a:off x="0" y="533520"/>
            <a:ext cx="4724280" cy="567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gravity2"/>
          <p:cNvPicPr/>
          <p:nvPr/>
        </p:nvPicPr>
        <p:blipFill>
          <a:blip r:embed="rId2"/>
          <a:stretch/>
        </p:blipFill>
        <p:spPr>
          <a:xfrm>
            <a:off x="4724280" y="18288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4800600" y="304920"/>
            <a:ext cx="4343400" cy="1477080"/>
          </a:xfrm>
          <a:prstGeom prst="rect">
            <a:avLst/>
          </a:prstGeom>
          <a:solidFill>
            <a:srgbClr val="33ff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CAP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4800600" y="2057400"/>
            <a:ext cx="4343400" cy="19051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45:10Z</dcterms:created>
  <dc:creator>Sarah Sewatsky User</dc:creator>
  <dc:description/>
  <dc:language>en-US</dc:language>
  <cp:lastModifiedBy>Jillian Boisse</cp:lastModifiedBy>
  <cp:lastPrinted>2010-01-10T00:37:51Z</cp:lastPrinted>
  <dcterms:modified xsi:type="dcterms:W3CDTF">2013-02-28T16:38:41Z</dcterms:modified>
  <cp:revision>90</cp:revision>
  <dc:subject/>
  <dc:title>PowerPoint Presentation</dc:title>
</cp:coreProperties>
</file>